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2680-A6C4-4262-90FF-E21731D3F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s chose the Bubble Map to show adjectives that depict themes and ideas of a short story, “La Rama Sec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s compared differences and similarities of two short stories written by Gabriel García Márquez by using the Double Bubble.  They then wrote a composition comparing and analyzing both s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s read “La Casa de Bernarda”, by Federico Garcia Lorca and drew a Flow Map to show sequence of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6FB-7AC2-404E-9924-079E106E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AFA-FB30-4A8C-BBD7-192510CC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5EA-ECDC-4F57-8DF9-696A8993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E33-AF54-4017-8196-D3FC3A1B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9EE-563F-4544-8472-AC6C54FD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A36-7231-4AC0-85A7-62680255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282-8A36-4099-A463-96C06726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3CB-C335-47B3-88BA-367DD63E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A09-1065-43C1-8254-46D571FD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0850-0EED-4718-B912-1CA60494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794-EB91-4D6B-A769-9739D1A1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A65-8D17-49BA-9B8B-7BA796B2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8EB8-029E-479B-BC62-FB2ACD974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4214" b="2948"/>
          <a:stretch/>
        </p:blipFill>
        <p:spPr>
          <a:xfrm>
            <a:off x="193680" y="82440"/>
            <a:ext cx="86868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ectives and adjective phrases that reflect the idea of a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3505320"/>
            <a:ext cx="152388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lo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1676520"/>
            <a:ext cx="16002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g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676520"/>
            <a:ext cx="160020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e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3505320"/>
            <a:ext cx="16002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257800"/>
            <a:ext cx="15238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stál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4860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30481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657600" y="487656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8769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409720" y="45720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257440" y="312408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505320"/>
            <a:ext cx="160020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5486400"/>
            <a:ext cx="15238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5257800"/>
            <a:ext cx="160020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á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h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600200"/>
            <a:ext cx="144792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28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SPANISH 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in Hig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edo, 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flipV="1">
            <a:off x="3124080" y="358092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9520" y="228564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2514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447920" y="4647960"/>
            <a:ext cx="7617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3200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3276720"/>
            <a:ext cx="144792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819160" y="4800600"/>
            <a:ext cx="990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715000"/>
            <a:ext cx="144756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2590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781680" y="46483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010280" y="28195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Bubb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733920"/>
            <a:ext cx="12952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e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1219320"/>
            <a:ext cx="160020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es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133720"/>
            <a:ext cx="129528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vía de 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uer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1600200"/>
            <a:ext cx="13716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oy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hij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410080"/>
            <a:ext cx="137160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bi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 e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1371600"/>
            <a:ext cx="137160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j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ej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72400" y="1752480"/>
            <a:ext cx="137160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u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3581280"/>
            <a:ext cx="144792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mue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5257800"/>
            <a:ext cx="137160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 su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 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952880" y="2438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35053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029200" y="45720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81480" y="4647960"/>
            <a:ext cx="106704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00992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42900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3962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57200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429000"/>
            <a:ext cx="1523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arg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 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ambu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60199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la se 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enta del  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yphna Galvan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ndra Maci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3276720"/>
            <a:ext cx="144792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u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4191120"/>
            <a:ext cx="137160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cas g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viv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28195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5228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SPANISH 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in Hig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edo, 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8333" t="19448" r="12500" b="13893"/>
          <a:stretch/>
        </p:blipFill>
        <p:spPr>
          <a:xfrm>
            <a:off x="762120" y="304920"/>
            <a:ext cx="7962840" cy="5029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8800" y="53053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AR-UP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2539" r="0" b="8570"/>
          <a:stretch/>
        </p:blipFill>
        <p:spPr>
          <a:xfrm>
            <a:off x="380880" y="914400"/>
            <a:ext cx="8458200" cy="5638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438280" y="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urlz MT"/>
              </a:rPr>
              <a:t>Sanche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15959" r="0" b="20223"/>
          <a:stretch/>
        </p:blipFill>
        <p:spPr>
          <a:xfrm>
            <a:off x="990720" y="685800"/>
            <a:ext cx="73166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6000"/>
          </a:blip>
          <a:srcRect l="4167" t="5556" r="10420" b="8337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14600" y="41148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map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renda Ruiz and San Juanita Saldi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3429000"/>
            <a:ext cx="19047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tirio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fren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 A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60958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6019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312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76312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99840" y="32004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7732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00200" y="510552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8390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334120"/>
            <a:ext cx="19047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i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ere imp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  Adela sal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verce con Pe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5334120"/>
            <a:ext cx="19051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lean y Berna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da cuent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dispara a Pe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352680"/>
            <a:ext cx="190476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mbién Marti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esa que 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523880"/>
            <a:ext cx="20574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to por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erte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1523880"/>
            <a:ext cx="175284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gustias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 a ca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 Pe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Ro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1447920"/>
            <a:ext cx="16002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ela 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ere p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die s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 se ve con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581280"/>
            <a:ext cx="198144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irio se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enta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5334120"/>
            <a:ext cx="17528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 cree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pe esta mu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se suic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5228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SPANISH L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edo, 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5556" r="16667" b="17594"/>
          <a:stretch/>
        </p:blipFill>
        <p:spPr>
          <a:xfrm>
            <a:off x="609480" y="304920"/>
            <a:ext cx="7772400" cy="5375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5305320"/>
            <a:ext cx="327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AR-UP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5:58:59Z</dcterms:created>
  <dc:creator>Chris Yeager</dc:creator>
  <dc:description/>
  <dc:language>en-US</dc:language>
  <cp:lastModifiedBy>Chris Yeager</cp:lastModifiedBy>
  <dcterms:modified xsi:type="dcterms:W3CDTF">2007-12-12T15:59:20Z</dcterms:modified>
  <cp:revision>1</cp:revision>
  <dc:subject/>
  <dc:title>Slide 1</dc:title>
</cp:coreProperties>
</file>